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288023"/>
        <c:axId val="42912669"/>
      </c:barChart>
      <c:catAx>
        <c:axId val="612880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912669"/>
        <c:crosses val="autoZero"/>
        <c:auto val="1"/>
        <c:lblAlgn val="ctr"/>
        <c:lblOffset val="100"/>
        <c:noMultiLvlLbl val="0"/>
      </c:catAx>
      <c:valAx>
        <c:axId val="429126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2880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6FD5-C1A2-4016-9419-F6D7A5E36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950A-B158-488C-AAB6-7442348C7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1A3C-A0CC-4A74-844F-8818514AA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8FF1-3604-4D7D-9A20-9F82AEAFF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DF73-1222-4DEE-88BE-42175C8DE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9D1D-56AF-48C3-BD6E-3FF38DB7A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6933-4611-4D6B-9B32-9115A25C3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7961-2338-4B89-A963-F3529352E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B3A4-3038-4331-979A-BE9D63FFF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7894-E30F-4AB5-A864-862D2A75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77BE-4132-48AD-AFEE-FF20533D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515B-73E4-4589-B759-1243E145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97D032-D46D-4E50-9D96-C3FAF9D9210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