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01405"/>
        <c:axId val="47632053"/>
      </c:barChart>
      <c:catAx>
        <c:axId val="48901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32053"/>
        <c:crosses val="autoZero"/>
        <c:auto val="1"/>
        <c:lblAlgn val="ctr"/>
        <c:lblOffset val="100"/>
        <c:noMultiLvlLbl val="0"/>
      </c:catAx>
      <c:valAx>
        <c:axId val="47632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01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33F-18DD-4DEF-981E-9534549E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0149-48C3-4D5B-B6E3-CAA61D9C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249-9A37-4F56-A015-70607382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903-8F17-4C91-96D1-99DF6E38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430-2677-421E-B81E-F123853A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EAA-16D1-4EA1-B1E5-028E9FC4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F5D-1836-4ACE-B4F6-9D00FA81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0BA-0388-4EBA-BF63-02970CB3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C6E-4E1D-46D3-B0E3-015D8A45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2DB-D5CF-4975-B62F-E4313F1F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03E-467C-482B-822E-066067F3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8CC-5758-4DCF-B29E-C64A4EBD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054F8-4E87-4796-9493-AE76F0E3DE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