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31266"/>
        <c:axId val="28566326"/>
      </c:barChart>
      <c:catAx>
        <c:axId val="53331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66326"/>
        <c:crosses val="autoZero"/>
        <c:auto val="1"/>
        <c:lblAlgn val="ctr"/>
        <c:lblOffset val="100"/>
        <c:noMultiLvlLbl val="0"/>
      </c:catAx>
      <c:valAx>
        <c:axId val="28566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31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2DD-7280-4593-950C-BF6526C3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C5F-D7B9-4882-9C5C-2E4B4C75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C36-6F7C-4045-BC4D-6FA4574D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42A-034C-44D7-97C0-79325D05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A68-AE20-4FF0-AF9F-7E8D70A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523-3952-42E7-9E76-AFA6E25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16D-2321-4DCE-832B-B225E672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FFD-F539-4F5B-8CE7-4DD6025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549-F187-40EC-85E7-2F5B177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A5D-1E4B-40BA-9098-72C33FB8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0C6-DDA3-46CA-A93E-1D8439A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3A0-0054-4667-8292-27C2FBF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42EEF-0434-4713-8D57-A29DA73F84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