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52636"/>
        <c:axId val="85221591"/>
      </c:barChart>
      <c:catAx>
        <c:axId val="50152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21591"/>
        <c:crosses val="autoZero"/>
        <c:auto val="1"/>
        <c:lblAlgn val="ctr"/>
        <c:lblOffset val="100"/>
        <c:noMultiLvlLbl val="0"/>
      </c:catAx>
      <c:valAx>
        <c:axId val="85221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2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460-C945-4139-B49C-962E0E2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5BD-ECFF-41E5-BF9E-A10C644E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661-9194-41F0-BF11-EA27D655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076-AAE3-451B-A4D3-FF0F9403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940-74B1-4A3B-BF2E-F14E944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1A6-8A63-4303-B85D-B567920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952-52A8-484C-9999-507B346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47B-F443-42CE-89DF-F09AFE7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386-0A52-4683-BA76-4E8D1035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D6A-55E2-41C1-A5D1-80CD3A1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9EA-70FA-4807-A639-0649C4F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02C-3F4A-41B2-B8D1-700F709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2468D-6198-4BB8-B1A9-6F180CF2D5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