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37307"/>
        <c:axId val="59263862"/>
      </c:barChart>
      <c:catAx>
        <c:axId val="96537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63862"/>
        <c:crosses val="autoZero"/>
        <c:auto val="1"/>
        <c:lblAlgn val="ctr"/>
        <c:lblOffset val="100"/>
        <c:noMultiLvlLbl val="0"/>
      </c:catAx>
      <c:valAx>
        <c:axId val="592638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37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6DD5-C709-49C4-BC1E-63D7C14D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71F-8295-4C83-A530-75D1A469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487-FBF5-4FD4-AD18-2AE7919B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D12E-D246-4508-902B-F06A6245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5E3E-93DE-4E12-8C2B-5077A054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56E-F9E9-416D-8488-E0BD0026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B798-71CF-4644-B986-C3FE3153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D0B-1983-4922-ACEA-2A7CDDBF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8DF-B63A-43A6-99C2-95392D65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18DD-D09D-4787-958F-5BEA6F7A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0D9-7E62-489E-9D63-983E81A5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50D-23F8-448E-B9A6-5D3BF88B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CCD46-37D2-4607-B05D-837DB31024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