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45739"/>
        <c:axId val="42952249"/>
      </c:barChart>
      <c:catAx>
        <c:axId val="95245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52249"/>
        <c:crosses val="autoZero"/>
        <c:auto val="1"/>
        <c:lblAlgn val="ctr"/>
        <c:lblOffset val="100"/>
        <c:noMultiLvlLbl val="0"/>
      </c:catAx>
      <c:valAx>
        <c:axId val="42952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45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408-57CB-49AC-B819-380F33C0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16D-F6E2-439F-A1CA-C0A09671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DDB-4652-4CA5-A3A3-66996538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8B6-E08F-4CB7-AA5B-598DAC13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0B8-BBEA-4057-8057-A270B9DD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0F9-E86E-4876-AEA7-490B25BB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D33-23B5-4928-8304-F3F1421B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5CB-BB75-45BD-AD8E-687C498B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3C4-A202-4BE3-B01E-4AB99C76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F2C-CEB0-45A0-B883-C7B07D1F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774-5126-4C87-9519-F307158C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942-C633-4E26-83D8-8D7B5A57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CBC0E-1364-44A0-AB0D-F55399E707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