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55632"/>
        <c:axId val="74117432"/>
      </c:barChart>
      <c:catAx>
        <c:axId val="21755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17432"/>
        <c:crosses val="autoZero"/>
        <c:auto val="1"/>
        <c:lblAlgn val="ctr"/>
        <c:lblOffset val="100"/>
        <c:noMultiLvlLbl val="0"/>
      </c:catAx>
      <c:valAx>
        <c:axId val="74117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55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3FC-FFD2-43DC-9F96-82C6F56A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896-D936-438C-BC78-FFB4877A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9BF-E12D-4660-B5D5-B3BB71AA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F69-2026-4938-874C-86E5FEE1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F88-32FF-4950-933D-6AF7FC61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69F-C32F-472E-BB40-0016389D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0CD-4820-4F51-8C43-87E148F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F0A-C7B9-40D3-900F-1FC2F212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C38-7FE2-414C-9D6B-B4975AFA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A14-1F49-4821-A3B0-2E4348D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A11-9B66-4A62-A8F1-84D1510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631-45B3-47F3-9D9E-F233763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C8825-0C8B-45BC-B1E1-79CBFE0351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