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77129"/>
        <c:axId val="65759082"/>
      </c:barChart>
      <c:catAx>
        <c:axId val="67077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59082"/>
        <c:crosses val="autoZero"/>
        <c:auto val="1"/>
        <c:lblAlgn val="ctr"/>
        <c:lblOffset val="100"/>
        <c:noMultiLvlLbl val="0"/>
      </c:catAx>
      <c:valAx>
        <c:axId val="65759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77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E89-6377-44E3-86A1-BD278D5A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78C-3ADA-4C5C-9E14-6890B95A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85C-34C4-420C-95BD-BBD603EF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014-9273-4614-AD18-817E801E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90C-14DF-433A-B5D6-B22AB4A9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EEF-7B10-42B9-BC59-4837AE87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492-F822-4779-BE7F-DC5604F3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FAA-1CAF-45CB-BE7E-14026E6C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8B1-EC04-44F7-8981-803B8AA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1D0-13C7-4A47-BB67-691E5A96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403-B4D1-4BDB-B5D7-5C6DC066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D98-98B2-456A-A433-29FFA897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FDA07-BBB0-41A7-85F6-A1F0A95B26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