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46286"/>
        <c:axId val="3807023"/>
      </c:barChart>
      <c:catAx>
        <c:axId val="616462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7023"/>
        <c:crosses val="autoZero"/>
        <c:auto val="1"/>
        <c:lblAlgn val="ctr"/>
        <c:lblOffset val="100"/>
        <c:noMultiLvlLbl val="0"/>
      </c:catAx>
      <c:valAx>
        <c:axId val="3807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462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67B4-BEDE-412C-80A2-CCEF3A38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ECA-7527-4870-AAF8-0BDEF9F0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4E77-B77F-43D4-B499-694423D4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D326-3DF3-4404-8652-ADB4C015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F434-80BE-4DC5-946F-8A745CF4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BDF8-2FD1-4FDD-8E16-0393DE13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0C51-4530-4586-8659-C31E3B5B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A4B6-6F35-42E5-9E34-3D182BD5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2129-0D0D-4DB4-BBB5-F9DBC518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493-AFE4-406C-8C1C-4BBBA4FD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F0E1-BF1D-4AFF-83A5-225D0BC3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D3DE-4A63-40BF-89C7-357EA7A2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7A7E4-1A21-4E66-A047-B4F01C6165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