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764396"/>
        <c:axId val="38155526"/>
      </c:barChart>
      <c:catAx>
        <c:axId val="497643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55526"/>
        <c:crosses val="autoZero"/>
        <c:auto val="1"/>
        <c:lblAlgn val="ctr"/>
        <c:lblOffset val="100"/>
        <c:noMultiLvlLbl val="0"/>
      </c:catAx>
      <c:valAx>
        <c:axId val="381555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643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814F-EAB7-4035-9E42-8127AB55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9C18-9C3A-49EC-AA55-3F83F347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6835-0EC4-41B3-933E-065DE1A1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0B5E-1E1F-44DE-A328-98FA1FC5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AD03-F45F-4990-96F4-E68988AA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1842-3D09-46E6-BCD7-6F7EFF78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C13-64D1-4F50-A614-1745F24E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3B6A-169E-47BE-8DFF-F302EAB1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5166-9E48-4DF9-A02F-BBA6BB9E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BC67-02DE-4EF7-AABF-1451B89B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7601-328C-4ABB-91AF-5D094FA2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F833-2305-4BBE-899C-58BE664C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51CB3-DA97-4B56-9E7E-AC075C773A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